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659-B7BF-40F4-93A8-43C70458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05B-091B-49E1-A06A-672422BD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C17-5B49-4F88-84BD-FD3B51B9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7D2-01A4-4AD2-AEEF-B543B829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8D5-FB0C-4CEC-8A26-76A6A8B2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40C-671B-4CE3-AE5E-62359768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B77-660A-4674-9C4A-77D806A5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7AC-FD06-48B5-8B94-5C758D83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016-F3D3-4E89-8D7C-8B6F46E2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B78-0A2D-4580-892F-00FD8343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6DB-A2BC-4BB2-B7D7-03B056A6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B22-40DF-4703-8F22-79D6A354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5FAC-A515-4128-B194-3925B68977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第四章 建设工程风险管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2997000"/>
            <a:ext cx="66564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4-1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风险管理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4-2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识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4-3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分析与评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4-4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对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风险分析与评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将风险事件发生的可能性和损失进行定量化的过程。包括确定风险发生概率、潜在损失程度、风险决策变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风险对策决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根据风险评价的结果，确定风险事件最佳对策组合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实施决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对风险对策所作出的决策进一步落实具体的计划和措施。包括制定预防措施、应急方案，签订保险合同等。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风险检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风险对策的执行情况不断进行检查，并评价其执行效果。包括检查决策是否执行、决策执行效果、确定是否需要新的风险处理方案、是否有遗漏风险或新的风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三）风险管理的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风险事件发生前，使潜在损失最小，减少忧虑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应的忧虑价值，满足外部的附加义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风险事件发生后，使实际损失减少到最低程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证建设工程实施的正常进行，在必要时承当社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责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4-2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识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一、风险识别的特点和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一）风险识别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个别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主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复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确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4298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二）风险识别的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由粗及细，由细及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粗及细指先全面分析，再逐渐分解细化，列出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初始风险清单；由细及粗指从工程初始风险清单中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主要风险，作为风险评价以及风险对策决策的主要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严格界定风险内涵并考虑风险因素之间的相关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先怀疑，后排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排除与确认并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必要时，可作实验论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二、风险识别的过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对经验数据的分析、风险调查、专家咨询、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验论证等方式，在对建设工程风险进行分解的过程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识工程风险，建立工程风险清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93582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三、建设工程风险分解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建设工程风险分解是根据工程风险的相互关系将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解成若干个子系统，使风险识别具有较好的准确性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整性和系统性，是工程项目风险识别的核心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解工程风险的原则是由宏观到微观、由大系统到小系统、由总体到细节、层层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解途径：目标维、时间维、结构维、因素维。有时需要几种方法组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四、风险识别的方法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专家调查法：开会、问卷调查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财务报表法：查资产负债表、现金流量表、营业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及有关补充资料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流程图法：按流程找出各步骤或各阶段的风险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风险事件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初始清单法：可快速、有效、全面地初步认识风险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经验数据法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风险调查法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4-3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分析与评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5011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一、风险分析与评价的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更准确地认识风险，确定风险发生的概率大小和概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、风险对项目的影响、风险之间的作用、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先后顺序和风险的主次之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制定更加合理和可执行的风险管理计划，进而保证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规划的合理性和计划的可行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可合理选择风险管理对策，有助于决策者制定更完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应急计划，有效选择风险防范措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项目在成本估计和进度安排方面更现实、更可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提高决策者的决策水平，加强风险意识，提高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水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二、风险量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,q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式中：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发生的概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的潜在损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三、风险损失的衡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工程风险损失包括以下几方面，都可以归纳为经济损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投资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进度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质量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安全风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4-1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风险管理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一、风险的定义和基本要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一）风险的含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就是与出现损失有关的不确定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就是在给定情况下和特定时间内，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生的结果之间的差异（或实际结果与预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果之间的差异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风险要具备的条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确定性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产生损失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四、风险概率的衡量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主观概率估计法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对比较法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客观概率估计法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率分布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五、风险评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评价风险潜在后果：用风险量来表示。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971640" y="5877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971640" y="4005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rc 8"/>
          <p:cNvSpPr/>
          <p:nvPr/>
        </p:nvSpPr>
        <p:spPr>
          <a:xfrm flipH="1" flipV="1">
            <a:off x="1692360" y="4507920"/>
            <a:ext cx="1728720" cy="936360"/>
          </a:xfrm>
          <a:custGeom>
            <a:avLst/>
            <a:gdLst>
              <a:gd name="textAreaLeft" fmla="*/ 360 w 1728720"/>
              <a:gd name="textAreaRight" fmla="*/ 1729440 w 1728720"/>
              <a:gd name="textAreaTop" fmla="*/ -360 h 936360"/>
              <a:gd name="textAreaBottom" fmla="*/ 936360 h 93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rc 9"/>
          <p:cNvSpPr/>
          <p:nvPr/>
        </p:nvSpPr>
        <p:spPr>
          <a:xfrm flipH="1" flipV="1">
            <a:off x="2267640" y="4292640"/>
            <a:ext cx="1800360" cy="936720"/>
          </a:xfrm>
          <a:custGeom>
            <a:avLst/>
            <a:gdLst>
              <a:gd name="textAreaLeft" fmla="*/ -360 w 1800360"/>
              <a:gd name="textAreaRight" fmla="*/ 1800360 w 180036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rc 10"/>
          <p:cNvSpPr/>
          <p:nvPr/>
        </p:nvSpPr>
        <p:spPr>
          <a:xfrm flipH="1" flipV="1">
            <a:off x="1332000" y="4580640"/>
            <a:ext cx="2016000" cy="1081080"/>
          </a:xfrm>
          <a:custGeom>
            <a:avLst/>
            <a:gdLst>
              <a:gd name="textAreaLeft" fmla="*/ 360 w 2016000"/>
              <a:gd name="textAreaRight" fmla="*/ 2016720 w 2016000"/>
              <a:gd name="textAreaTop" fmla="*/ -360 h 1081080"/>
              <a:gd name="textAreaBottom" fmla="*/ 1081080 h 108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971640" y="357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4227480" y="6010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99564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1258920" y="602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等风险量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4643280" y="587700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6"/>
          <p:cNvSpPr/>
          <p:nvPr/>
        </p:nvSpPr>
        <p:spPr>
          <a:xfrm flipV="1">
            <a:off x="4643280" y="4005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4643280" y="357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概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948360" y="537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潜在损失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930920" y="6021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风险等级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4643280" y="4292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4643280" y="47973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4643280" y="537372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6877080" y="429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5364000" y="429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5"/>
          <p:cNvSpPr/>
          <p:nvPr/>
        </p:nvSpPr>
        <p:spPr>
          <a:xfrm>
            <a:off x="6084720" y="429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4788000" y="4365720"/>
            <a:ext cx="244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     H     V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      M  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     L     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六、风险分析与评价的步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收集资料：资料必须客观、可统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立不确定性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风险的潜在后果进行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4-4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对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一、风险回避</a:t>
            </a:r>
            <a:br>
              <a:rPr sz="36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指以一定的方式中断风险源，使其不发生或不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展，从而避免可能产生的潜在风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两种途径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拒绝承担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放弃以前承担的风险以避免更大的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应注意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回避一种风险可能产生另一种新的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回避风险的同时也失去了从风险中获益的可能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回避风险可能不实际或不可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二、损失控制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采用措施降低或消除损失发生的概率，从而降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损失的严重性或遏制损失的进一步发展，使损失最小化。        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内容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预防损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减少损失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损失控制计划系统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包括预防计划、灾难计划、应急计划三方面。他们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之间的关系如下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2203560" y="5813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755640" y="5661000"/>
            <a:ext cx="1447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损失和危险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203560" y="6041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2203560" y="6346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117960" y="5661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防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032360" y="5889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4032360" y="6270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946760" y="5737320"/>
            <a:ext cx="11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风险事件发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6089760" y="6118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470640" y="5661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灾难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7385040" y="6118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7689960" y="573732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急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三、风险自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风险留给自己承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类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非计划性风险自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于风险管理人员没有意识到某些风险的存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者不曾有意识地采取有效措施，以致风险发生后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由自己承当。该风险自留是非计划性的和被动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导致原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乏风险意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识别失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评价失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决策延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决策实施延误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5011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计划性风险自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风险管理人员在经过风险识别和风险评价后作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风险对策决策。该风险是主动的、有意识的、有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划性风险自留的计划性主要体现在风险自留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和损失支付两方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自留水平是指选择哪些风险事件作为风险自留的对象，一般应选择风险量小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损失支付方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从现金净收入中支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建立非基金储备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我保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母公司保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自留的适用条件（至少符合条件之一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别无选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期望损失不严重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损失可准确预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企业有短时间内承受最大潜在损失的能力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投资机会很好（或机会成本很大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内部服务优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四、风险转移</a:t>
            </a:r>
            <a:br>
              <a:rPr sz="3600"/>
            </a:b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转移是指风险由有关各方分担。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分担应遵循的两个原则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任何一种风险都应由最适宜承担该风险或最有能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进行损失控制的一方承担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必须让承担风险者得到相应的报答。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转移的形式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非保险转移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业主将合同责任和风险转移给对方当事人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包商进行合同转让或工程分包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方担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保险转移</a:t>
            </a:r>
            <a:br>
              <a:rPr sz="2800"/>
            </a:b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五、风险对策决策过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二）与风险相关的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因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能产生或增加损失概率和损失程度的条件或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素，是风险事件发生的潜在原因，是造成损失的内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间接原因。风险因素通常有三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然风险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道德风险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心理风险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事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造成损失的偶发事件，是造成损失的外在或直接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只有通过风险事件的发生，才能导致风险损失。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损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非故意的、非计划的和非预期的人身及财产经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价值的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损失分为直接损失、间接损失、隐蔽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损失机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损失出现的概率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率分客观概论和主观概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观概论是某事件在长时间内发生的频率。确定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有：演绎法、归纳法、统计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观概率是个人对某事件发生可能性的估计。其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受很多因素的影响，如个人的受教育程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业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平、实践经验以及年龄、性别、性格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三）风险要素之间的关系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4000"/>
            </a:br>
            <a:br>
              <a:rPr sz="2000"/>
            </a:b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二、风险的分类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的后果分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纯风险：指只会造成损失而不会带来收益的风险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投机风险：指既可能造成损失也可能带来收益的风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3"/>
          <p:cNvSpPr/>
          <p:nvPr/>
        </p:nvSpPr>
        <p:spPr>
          <a:xfrm>
            <a:off x="167652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066680" y="1676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43000" y="1066680"/>
            <a:ext cx="549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4640" y="1371600"/>
            <a:ext cx="911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850480" y="1341360"/>
            <a:ext cx="9118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373392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904640" y="1447920"/>
            <a:ext cx="9118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损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 flipV="1">
            <a:off x="5867280" y="2276640"/>
            <a:ext cx="12258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7093080" y="1413000"/>
            <a:ext cx="182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结果与预期结果的差异，即风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67652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产生或增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995640" y="1844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引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09588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产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产生的原因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政治风险、社会风险、经济风险、自然风险、技术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的影响范围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风险：指作用于整个经济或大多数人群的风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普遍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殊风险：指仅作用于某一特定单体的风险，不具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普遍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分析依据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观风险、主观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分布情况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别（地区）风险、行业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潜在损失形态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财产风险、人身风险、责任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的性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管理风险和不可管理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后果的承担主体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业主的风险、承包商的风险、投资方风险、设计单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、监理单位风险、供应商风险、政府风险、担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风险、保险公司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的可预测性分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风险、可预见风险、不可预见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三、建设工程风险与风险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一）建设工程风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建设工程风险大且具有多样性、复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周期长，涉及的风险因素多，风险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按风险产生的原因将风险分为政治风险、社会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险、经济风险、自然风险、技术风险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参建各方均有风险，但各方的风险各不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课程主要是从业主的角度进行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参与工程项目的各方主体承受风险的能力不尽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工程项目风险具有可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50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二）风险管理的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管理的概念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谓风险管理是识别、度量项目风险，制定、选择和实施风险处理方案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管理是一个动态的、循环的、系统的完整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管理的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风险识别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通过一定的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而全面地识别出影响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目标实现的风险事件并加以适当归类的过程。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风险分解、项目风险调查、确立风险清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30T02:25:25Z</dcterms:modified>
  <cp:revision>40</cp:revision>
  <dc:subject/>
  <dc:title>PowerPoint Presentation</dc:title>
</cp:coreProperties>
</file>